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08D-3738-493A-BE00-CAA673A4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84D-8B4B-4E07-96CD-658620EB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052-28AE-4059-8782-F8FBC8BC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90F-4247-462E-BB61-66C1133A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AC5-5B5F-40BA-9300-BDBB436A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1B9-D43E-46F0-AA7F-5A7D3341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21E-A095-4202-8343-06509CBD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7DA-69CD-4611-A614-2983AAD9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99A-151A-4600-9FD5-C0EDFCFF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35D-0F04-4347-A80E-B7D1B4DA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BAC-8320-4457-8886-375400E1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910-BF81-409F-BFB0-EA52D398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25AC-84F4-4988-B696-F68A2C14BAA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5790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El </a:t>
            </a: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Burlador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 de Sevill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2819520"/>
            <a:ext cx="2895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irso de Molin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Tirso de Molina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Gabriel Télle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Nacido en Madrid, el 24 de marzo de 157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Se ordenó sacerdote en 1606 en Toled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Escribió las comedias, las obras históricas, y las dramas religios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El Argumento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El personaje principal es Don Juan Tenori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Don Juan es un burlador que tiene la obsesión de las muje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Burla muchas mujeres, la duquesa de Nápoles, una pescadora, una pastora, y otras*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41880" y="1523880"/>
            <a:ext cx="3241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La Tema / Moralej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Si se vive una vida mal, se será castigado*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Salvación es decidido por Di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59440" y="1600200"/>
            <a:ext cx="3214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Las Personaj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Don Ju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Su sirviente Catalinón*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Su tío, Don Pedr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El rey de Nápo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Octavio (el duqu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Marqués de la Mota (se enamora de doña Ana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Don Gonzalo (la estatua pierda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Muje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Isabela (la duquesa Nápole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Tisbea (la pescador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Aminta (la pastor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Doña Ana (la hija de don Gonzalo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Los </a:t>
            </a: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Símbolos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La noche es simbólico de accionas mal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Don Pedro describe un demonio que transforma en humo y polv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Catalinón dice “Pobre Batricio, has caído en las manos de Lucifer [don Juan]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538360"/>
            <a:ext cx="40384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Opinió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La obra es un poco tonto, pero es muy cómi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Las personajes son aburridos con excepción a Catalinó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La tema es verdad ho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El estilo es bueno y congruen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Los escenarios hacen suspen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Argumento - 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Personajes - 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Tema - 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Estilo - 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Escenario - 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20:24:59Z</dcterms:created>
  <dc:creator>Tran</dc:creator>
  <dc:description/>
  <dc:language>en-US</dc:language>
  <cp:lastModifiedBy>Tran</cp:lastModifiedBy>
  <dcterms:modified xsi:type="dcterms:W3CDTF">2009-04-13T22:31:13Z</dcterms:modified>
  <cp:revision>19</cp:revision>
  <dc:subject/>
  <dc:title>El Burlador de Sevilla</dc:title>
</cp:coreProperties>
</file>